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B868-0E44-48B9-8175-8D93A1C1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6C54-76D3-4C24-B435-85468AC3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9F968B-B00F-4959-B75B-84437D59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CE2769-F2CF-4F39-8A65-D57A0144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74857B-8CDF-431E-B721-29298348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1B90EA-AFDD-4899-B0F0-AE82BBD4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204386-BC0E-4742-9D4D-6B7B0166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338CFA-D50E-4413-9E14-F5C5D826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92C48F-B201-4750-AF8F-B6C25781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AA3C75-5574-45AA-BE4E-BEE98FC0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898C19-F2AA-4DEF-95D4-2EDB405E0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2EF2D0-631F-49C4-B24B-C20E123DA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B880-893D-4E0A-9363-2320E3D4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40C66F-394A-44C7-8F66-EEF38680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3BE37E-3B42-49FE-B968-39E7F11E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07E5E3-C1DF-45DB-BFE2-F1748178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C7512B-77AF-4E34-81AF-F8EA602E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E11D22-F5F2-4C9F-9925-2EFF964E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91F986-841C-4BA7-85BC-7044E6EE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AE1148-EDEF-4308-AB24-AC9F7CDC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C9AD33-F397-40E5-8EA6-20CC72FF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9A559C-F3AE-4454-88F9-4DDB945F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3942FA-F031-4EC1-9E76-752B0ECF8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5C57-EF1E-4907-9BEF-F5D9F5A8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09AB5E-7FD9-4012-8BAF-82EA9ADF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4B2C1-6131-48AC-A4C0-1EA0F0001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838BF-8955-4E23-9D4A-B2D73002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B7A54-D8C5-4852-9B1B-E25AD04D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C86CE-EA96-4563-BF53-77384DF5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9A6B5-4FB8-47CF-A9EE-77822069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7F6BC-670A-41FA-8053-940B150E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8B18C-B2B5-4211-A922-A30146C3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22E3F-2BE9-4A3A-AC0D-5152C929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46F31-4AD5-4C23-BC10-8B5544E2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4D88-5D75-49BC-BE95-1C311EE73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5956C-D672-4915-93DC-E213B53C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99162-A095-496F-A6B8-640E2E52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D351B-1D60-454A-A36C-3BACEABD3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4C1DED-2892-4798-A0F2-16AFC403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32DD5C-FE69-4675-8263-99717152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7B744D-5307-4E4F-AC86-1DEADB10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B4DF39-400D-4F7C-BAC9-12B631CA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723798-D344-4E15-895E-FB3C1D9F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685069-73AF-4346-9C4D-D0C0AF56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61DB4D-A2D8-478A-8988-4DBE7C57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DF39-BB1E-439F-8319-55674F14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5C5AE9-B072-4B62-8E4C-D7A1B7D9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B17066-D848-4395-80AD-7EA8FCC1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F0051D-3049-420E-A1BD-A601863B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83819B-1DE2-4278-807B-1185E3BFF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3ABF71-2245-4FE1-9901-30D3E2F8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9CD6-419B-4998-993F-6417F724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99A8-EC93-417A-9C94-5938BC32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385A-E349-4F50-9A87-A1848496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091C-9991-4123-A262-8B81F987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6C38-1F72-47A0-A29B-CE12EA9B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3EE0-E530-4AD8-BADD-B073C259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E08C-664E-4085-82DC-E9A1AC6D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D96C-7D63-423D-9BF5-237A7B2C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AF82-E12A-42E6-817F-4A6B8C40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7740-195F-461A-BC1C-F4ABF60B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CAF3-F477-4AB1-8698-9EB1DB17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2D6B2-0C56-4C79-BD1F-7EEEBA1B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A2066-4648-43E3-A1CB-9327CB6E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340E9-2377-4725-B768-A2814333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7B1B3-8378-4223-81F6-4FBAB985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169CE-9AA4-4AEA-A827-65D5EAA3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76E6-736A-4109-B494-BD9C67F7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DE661-2ED5-4924-B793-FF8CD738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59097-03E2-49E9-B0E8-D1A8E4F6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C9B47-C699-4C25-BA18-A0459AAA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7747A-C241-4955-8BB7-19F571F9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B0C2F-9E09-471A-83BE-2F611B32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F98B3-1ADE-4104-AAE8-96F436211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7FEE5-C693-4A66-A681-293128468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2C5E8-217F-4206-B4C9-834C2873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267E7-09B4-4937-BC4C-BBA1DD43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BD55B-6D9D-4C07-894C-1F551901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D132-3D03-4214-A5D3-7C02BDC4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9727C-B43D-471A-BBD1-714B0238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5FA40-5024-4C39-9B1C-D2ED41AF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AB484-E328-4881-BFC0-B51E16B0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88F8C-F92B-4D96-8A98-B855061F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D9D7F-C849-462A-A071-AB3D5A51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29887-1D97-4265-97B3-EDD7BF12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76D76-59BC-43C6-A6A6-D7928A35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F868E-5459-4080-B0B0-83BF77A5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E029B-7A1D-4C59-B873-1DA9A80D5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7FACC-72FD-46DD-9646-1F08ED04D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F9DB-9B7C-422E-A1F1-07AA00D7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A92D7-F59F-4194-B097-65A3315F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9F930-FBBE-4511-B639-7750ED70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90A81-150A-4BAC-8FEF-9BB062A4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9AA71-D73F-4992-8A4C-3580E0CD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84207-7855-4DFD-90C8-6570FA66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7E3BC-FD79-43F4-8D46-CC2836F9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E06D8-764C-4275-9D55-76DEA032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96D28-BEA5-4A40-A35C-211335DA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75EE3-5676-41CA-B591-E4C69048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595BE-0EEC-4085-A1C0-6325A3F8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5F04-893C-45C4-B0E2-18A7E5CE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6C16D-1677-4915-908C-7227A5C7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9190F-4BEA-4C10-BCA7-9C403847F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67A57-C0F4-42D3-B892-BBCF7E28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76460-0A98-4337-8CD1-9084D992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AE986-4071-4421-A5DF-E93D702A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CA15A-CB3F-4739-83FF-EF14A92C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CBA16-B905-4C42-86FA-60CFE3AB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44F80-EEF2-4DC3-8A67-7BF4912A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6BC7D-0BC8-41CE-8058-7F7EA84C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27A99-71C8-4B3C-A677-1784FD7A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7F28-7AAE-4817-9925-0B87193B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A2974-BDC9-4147-B113-D659ACF2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94BE5-E7CA-4061-B933-70834BC3B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3AC20-06CA-4065-92D2-1CDD2E2F6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F7274-2408-492C-A90C-ECCB78824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09BE3-5511-48BF-B486-9C2DDB94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AF7DD-B722-471C-B587-19FE7C31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39C3A-0331-4D16-9F70-0AEB6189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F4C69-F4C3-4902-BA0F-AF0422FC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78402-64BB-44B3-B6C7-AC7D58CB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A46F9-5E70-4DD2-9FEE-5DEB21AF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5A18-5140-4AAB-AF10-BF5E5148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3D9EB-A2D5-4D2D-A7D6-F42BB28F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E49F9-C97B-4D0E-94F5-4689D281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8DD53-7CA5-4FB0-ACE8-9F709539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053C2-8915-44E3-8A0D-4EECAA491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0C69D-364B-4D7A-BEC7-733759DDB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4295C-C9B0-4FC0-860B-F0DA2B17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F59AF-51FB-4B79-BFAC-E9A87379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AC28C-603A-4DFD-8C3B-83938D23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CDAEF-54A1-4536-B704-BCFB1F4A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A5752-7B93-4FF1-B5DD-7712F5D8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EF61-6A2C-482A-AEDB-CCFC2C8F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F8FA1-BABA-47A4-BD3D-6A296F32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CC041-98F0-4659-91F8-8203910F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844E4-42E0-446C-A7B5-DD5FAB55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C64D7-0600-48AE-9218-FC91D304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003EA-3A3C-4EEC-9361-D068785B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9CCAF-4787-40AC-9AB6-AA09701E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5B793-8F84-44CD-8DC2-8BDF0D92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5807C6-3F14-455F-AC57-4A532C34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877510-97BA-4724-BDAB-5A23F0C2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CE7627-98BB-49C3-A81B-E68E1DBE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4A9F-05F0-4AEB-AEF1-475028BD8A0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D1E8-EEB8-49D6-B29B-2932B976059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0316-73F8-447B-A44E-B38E826D91E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9ADB-26E9-49FA-91F7-FE211E9ECB3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D297-2A38-4686-9F81-2ED4A688F37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BEA8-2177-4CDD-9700-ED0AB8BECC6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03B3-1C87-4A26-AB6D-D7C4CA3E100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8C8D-EE50-4003-8F89-A4EFFA5DB8A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A0A0-2D87-4C96-BBD9-3C08233DFF3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8DDB-4410-439F-A1E8-A8DC599ABF4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8A49-83F6-490B-9B50-A3C85673A710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94E0-959A-49D7-8AA1-5F9F1906294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46b86"/>
                </a:solidFill>
                <a:latin typeface="Georgia"/>
              </a:rPr>
              <a:t>TWO SIDES TO THE SAME ARGU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d16349"/>
                </a:solidFill>
                <a:latin typeface="Georgia"/>
              </a:rPr>
              <a:t>The Big Debate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Summary of An Inconvenient Trut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Global warming is caused by the greenhouse effect from man-made carbon dioxide in the atmospher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The evidence is found in ice-core samples, dating back 650,000 year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It shows that when Carbon Dioxide levels increase, temperature increas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There is no disagreement between scientists, only in the popular press that Carbon Dioxide is linked to climate chang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If this theory was the only one available to you, what would you think causes global warming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The Great Global Warming Swind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2" name="Content Placeholder 4" descr="images.jpg"/>
          <p:cNvPicPr/>
          <p:nvPr/>
        </p:nvPicPr>
        <p:blipFill>
          <a:blip r:embed="rId1"/>
          <a:stretch/>
        </p:blipFill>
        <p:spPr>
          <a:xfrm>
            <a:off x="642960" y="1571760"/>
            <a:ext cx="3286080" cy="459396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This theory states that: -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Global warming is caused by solar activity which deflects cosmic rays from earth and decreases cloud cover”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Clouds and Cosmic Ray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5" name="GGWS clouds &amp; cosmic rays cartoon.wmv" descr=""/>
          <p:cNvPicPr/>
          <p:nvPr/>
        </p:nvPicPr>
        <p:blipFill>
          <a:blip r:embed="rId1"/>
          <a:stretch/>
        </p:blipFill>
        <p:spPr>
          <a:xfrm>
            <a:off x="142920" y="1614600"/>
            <a:ext cx="885816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63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63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6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Sort the cards in front of you to explain global warming by solar activity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Temperature vs Solar 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9" name="GGWS Temp vs Solar Activity.wmv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88581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6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Carbon Dioxide Lags Temperatur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1" name="GGWS CO2 lags temp.wmv" descr=""/>
          <p:cNvPicPr/>
          <p:nvPr/>
        </p:nvPicPr>
        <p:blipFill>
          <a:blip r:embed="rId1"/>
          <a:stretch/>
        </p:blipFill>
        <p:spPr>
          <a:xfrm>
            <a:off x="142920" y="1614600"/>
            <a:ext cx="885816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2" dur="1" fill="hold"/>
                                        <p:tgtEl>
                                          <p:spTgt spid="6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Temperature vs CO2 and Solar 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3" name="GGWS Temp vs CO2 and Solar Activity.wmv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88581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8" dur="1" fill="hold"/>
                                        <p:tgtEl>
                                          <p:spTgt spid="6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7b9899"/>
                </a:solidFill>
                <a:latin typeface="Georgia"/>
              </a:rPr>
              <a:t>Summary of the Great Global Warming Swindle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Global warming is caused by solar activity which deflects cosmic rays from earth and decreases cloud cove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When solar activity is high, temperature increas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The ice-core records show that Carbon Dioxide lags temperature by 800 year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There is a direct relationship between temperature change and solar activity, but no real relationship between carbon dioxide and temperature chang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If this theory was the only one available to you, what would you think causes global warming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Why are we doing this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Scientists do not always have the answers, and scientific data can be interpreted in a number of way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Global warming is a hotly debated topic, taking up many column inches every year in the popular press and in scientific journals, but there seems to be a disagreement about the fact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We are going to look at two arguments made on the causes of global warming, and see if we can make our own minds up on what one to believ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Ongoing 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Throughout these video clips, make notes on the worksheet provided of anything you feel is relevant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3" name="Content Placeholder 4" descr="An-Inconvenient-Truth-HavenWorks-com-tv-blog.jpg"/>
          <p:cNvPicPr/>
          <p:nvPr/>
        </p:nvPicPr>
        <p:blipFill>
          <a:blip r:embed="rId1"/>
          <a:stretch/>
        </p:blipFill>
        <p:spPr>
          <a:xfrm>
            <a:off x="214200" y="1428840"/>
            <a:ext cx="4000680" cy="4681440"/>
          </a:xfrm>
          <a:prstGeom prst="rect">
            <a:avLst/>
          </a:prstGeom>
          <a:ln w="0">
            <a:noFill/>
          </a:ln>
        </p:spPr>
      </p:pic>
      <p:pic>
        <p:nvPicPr>
          <p:cNvPr id="614" name="Content Placeholder 5" descr="center_image.jpg"/>
          <p:cNvPicPr/>
          <p:nvPr/>
        </p:nvPicPr>
        <p:blipFill>
          <a:blip r:embed="rId2"/>
          <a:stretch/>
        </p:blipFill>
        <p:spPr>
          <a:xfrm>
            <a:off x="5105520" y="1428840"/>
            <a:ext cx="3824280" cy="4643280"/>
          </a:xfrm>
          <a:prstGeom prst="rect">
            <a:avLst/>
          </a:prstGeom>
          <a:ln w="0">
            <a:noFill/>
          </a:ln>
        </p:spPr>
      </p:pic>
      <p:pic>
        <p:nvPicPr>
          <p:cNvPr id="615" name="Rectangle 6" descr=""/>
          <p:cNvPicPr/>
          <p:nvPr/>
        </p:nvPicPr>
        <p:blipFill>
          <a:blip r:embed="rId3"/>
          <a:stretch/>
        </p:blipFill>
        <p:spPr>
          <a:xfrm>
            <a:off x="3773520" y="2895480"/>
            <a:ext cx="17683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An Inconvenient Trut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7" name="Content Placeholder 4" descr="enviro%20gore.jpg"/>
          <p:cNvPicPr/>
          <p:nvPr/>
        </p:nvPicPr>
        <p:blipFill>
          <a:blip r:embed="rId1"/>
          <a:stretch/>
        </p:blipFill>
        <p:spPr>
          <a:xfrm>
            <a:off x="608040" y="1517760"/>
            <a:ext cx="3425760" cy="438948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The theory put forward by the former vice president of the USA, Al Gore, states that:-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Global warming is caused by the greenhouse effect from man-made carbon dioxide in the atmosphere”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The Greenhouse Effec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0" name="AIT Greenhouse effect and cartoon.wmv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88581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" dur="1" fill="hold"/>
                                        <p:tgtEl>
                                          <p:spTgt spid="6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Sort the cards in front of you to explain the theory of man-made global warming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Temperature vs Carbon Diox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4" name="AIT Temp vs CO2 from ice cores.wmv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88581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624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" dur="1" fill="hold"/>
                                        <p:tgtEl>
                                          <p:spTgt spid="6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Disagreement Amongst Scientists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6" name="AIT disagreement amongst scientists.wmv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88581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8" dur="1" fill="hold"/>
                                        <p:tgtEl>
                                          <p:spTgt spid="6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9:13:42Z</dcterms:created>
  <dc:creator>Greenfaulds High</dc:creator>
  <dc:description/>
  <dc:language>en-US</dc:language>
  <cp:lastModifiedBy>Stephen Day</cp:lastModifiedBy>
  <dcterms:modified xsi:type="dcterms:W3CDTF">2009-08-25T08:00:22Z</dcterms:modified>
  <cp:revision>8</cp:revision>
  <dc:subject/>
  <dc:title>The Big Debate</dc:title>
</cp:coreProperties>
</file>